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36207-130D-4ED2-A4C1-C5E3E8CD9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F2140-3104-4605-8047-01AD3CB01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7D90E-99C8-4BA6-8E19-5FCC8D7A5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7A3BF-62D4-42AE-889B-61461D75A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DA90C-192C-4AE8-B0C8-A1421E802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540E8-2DCB-46A5-A57D-BD47E470A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DC7FF-C672-41AD-BDAB-CE3DDEBD6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DF137-4617-451F-ABBB-68F0BFED2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505320" y="-360"/>
            <a:ext cx="5333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7DB09-269B-4F6B-AC03-720F14F99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4F169-068C-4943-A118-9531F24D8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6A252-65A8-4CF0-BF1E-9092BB88F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73F8F-3F49-45E0-A109-0C9078DD1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pt_backgr_04_details_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76FC0-7B19-42C1-9B4D-7FEDED6479B1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pt_backgr_01_welkom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Onderwij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erugblik FP CK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Vooruitblik FP voor Informatic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elium opnemen in ID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Distributie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icenti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anneer openbaar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latform ondersteun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Taal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erator sect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dule syste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rrefutable patterns (~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ass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Onderzoek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ansformatie (A-termen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ooks” voor andere systeme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irectory structuu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terpret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le / direc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Koppeling met Jav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GU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662280" y="228600"/>
            <a:ext cx="5253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Wie doet Wat?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8T08:34:29Z</dcterms:created>
  <dc:creator>Arjan van IJzendoorn</dc:creator>
  <dc:description/>
  <dc:language>en-US</dc:language>
  <cp:lastModifiedBy>Arjan van IJzendoorn</cp:lastModifiedBy>
  <dcterms:modified xsi:type="dcterms:W3CDTF">2002-12-18T08:42:02Z</dcterms:modified>
  <cp:revision>6</cp:revision>
  <dc:subject/>
  <dc:title>Onderwijs</dc:title>
</cp:coreProperties>
</file>